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3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63C59-F747-46DE-BB08-95F98E0AC2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C38A5-26E4-41F5-A999-EA6480FD41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B1CE1-ECD8-4294-8166-ADEA96C62F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A7E42-899C-4812-B48A-3DB2A97CD4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F5650-01B2-48D2-8662-4D743A75CD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F4B96-8FCB-42D8-B6B0-E7558F3491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CA9FC-1A2B-4E41-87E2-7D295D712E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7B8-12BE-41B1-9316-00898D1E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602-6F35-4EAA-A4BE-9D51ADE2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502-09CB-4BD5-B571-420864E5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0C1-5A1E-4BE3-973C-45098B88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BBF-065C-4E7E-904D-96C2701D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245-4571-49E3-83DB-45A31A87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5E5-7883-49E5-9698-7A4E13DA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CCB-223B-4EDC-B312-D69F40D5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31480"/>
            <a:ext cx="9064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957-9402-4080-A2AF-3C3618B6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CEB-3C55-4C6A-8C47-44A1FCEA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119-0D95-4B32-8CA9-A6F77632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BA6-B08D-4975-9354-BD75DCD1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F1DBF6-C717-45AF-AE63-F19759BC1A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900000" y="539640"/>
            <a:ext cx="8820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WordArt 2" descr=""/>
          <p:cNvPicPr/>
          <p:nvPr/>
        </p:nvPicPr>
        <p:blipFill>
          <a:blip r:embed="rId1"/>
          <a:stretch/>
        </p:blipFill>
        <p:spPr>
          <a:xfrm>
            <a:off x="2152800" y="1616040"/>
            <a:ext cx="7392960" cy="271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6360" y="720720"/>
            <a:ext cx="914400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396080" y="1833480"/>
            <a:ext cx="744732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f9397e"/>
                </a:solidFill>
                <a:uFillTx/>
                <a:latin typeface="Arial"/>
              </a:rPr>
              <a:t>LISTENING AND WORKING: um trabalho difer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f9397e"/>
                </a:solidFill>
                <a:latin typeface="Arial"/>
              </a:rPr>
              <a:t>Professor STE Clemilton – Professora STE Vâ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f9397e"/>
                </a:solidFill>
                <a:latin typeface="Arial"/>
              </a:rPr>
              <a:t>Matutino         -     Notur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cc00cc"/>
                </a:solidFill>
                <a:latin typeface="Arial"/>
              </a:rPr>
              <a:t>ESCOLA ESTADUAL REYNALDO MAS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cc00cc"/>
                </a:solidFill>
                <a:latin typeface="Arial"/>
              </a:rPr>
              <a:t>Ivinhema - 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1079640" y="900000"/>
            <a:ext cx="8640720" cy="45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ÚBLICO AL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rablus"/>
              </a:rPr>
              <a:t>Professores de Língua Inglesa do período Matutino e Notu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rablus"/>
              </a:rPr>
              <a:t>Alunos do 3º Ensino Médio “A” e “C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611280" y="1065240"/>
            <a:ext cx="899928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TIVO GE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451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holoth;Times New Roman"/>
              </a:rPr>
              <a:t>Divulgar, utilizar e aperfeiçoar novas ferramentas tecnológicas educacionais envolvendo professores de Lingua Inglesa e alunos dos últimos anos do ensino médi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720720" y="1260360"/>
            <a:ext cx="864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680000" y="1619280"/>
            <a:ext cx="181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9280" y="208080"/>
            <a:ext cx="9899640" cy="72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TIVOS ESPECÍFIC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esentar a duas professoras de Língua Inglesa as diversas possibilidades de ensino-aprendizagem a partir de site interativ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r as ferramentas (kdenlive); estimular edição de vídeo, utilização e manuseio  de câmera digital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inar conversação e promover diálogos em Língua Inglesa tornando o aprendizado mais dinâmico e atr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179280" y="415800"/>
            <a:ext cx="98996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ODOLOG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crições no site ( www.englishtown.com.br)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ertura de e-mail para os aluno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balho com os recursos do e-mail e sit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essar lições recebidas no e-mail pelo site citado e ouvi-las com os professores e aluno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39640" y="1079640"/>
            <a:ext cx="8999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inar a listening and speaking através das liçõ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ar teatralização das lições em sala e grava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esentar o Kdenlive aos professores e aluno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ções sobre o uso e recursos da câmera digital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ar os vídeos no Kdenlive e assisti-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otos3anoA 001"/>
          <p:cNvPicPr/>
          <p:nvPr/>
        </p:nvPicPr>
        <p:blipFill>
          <a:blip r:embed="rId1"/>
          <a:stretch/>
        </p:blipFill>
        <p:spPr>
          <a:xfrm>
            <a:off x="0" y="0"/>
            <a:ext cx="5111640" cy="3557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otos3anoA 008"/>
          <p:cNvPicPr/>
          <p:nvPr/>
        </p:nvPicPr>
        <p:blipFill>
          <a:blip r:embed="rId2"/>
          <a:stretch/>
        </p:blipFill>
        <p:spPr>
          <a:xfrm>
            <a:off x="5472000" y="0"/>
            <a:ext cx="4608720" cy="356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otos3anoA 005"/>
          <p:cNvPicPr/>
          <p:nvPr/>
        </p:nvPicPr>
        <p:blipFill>
          <a:blip r:embed="rId3"/>
          <a:stretch/>
        </p:blipFill>
        <p:spPr>
          <a:xfrm>
            <a:off x="0" y="3894120"/>
            <a:ext cx="5111640" cy="366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fotos3anoA 007"/>
          <p:cNvPicPr/>
          <p:nvPr/>
        </p:nvPicPr>
        <p:blipFill>
          <a:blip r:embed="rId4"/>
          <a:stretch/>
        </p:blipFill>
        <p:spPr>
          <a:xfrm>
            <a:off x="5472000" y="3924360"/>
            <a:ext cx="46087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fotos3anoA 004"/>
          <p:cNvPicPr/>
          <p:nvPr/>
        </p:nvPicPr>
        <p:blipFill>
          <a:blip r:embed="rId1"/>
          <a:stretch/>
        </p:blipFill>
        <p:spPr>
          <a:xfrm>
            <a:off x="4753080" y="3564000"/>
            <a:ext cx="5327640" cy="39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fotos3anoA 010"/>
          <p:cNvPicPr/>
          <p:nvPr/>
        </p:nvPicPr>
        <p:blipFill>
          <a:blip r:embed="rId2"/>
          <a:stretch/>
        </p:blipFill>
        <p:spPr>
          <a:xfrm>
            <a:off x="0" y="0"/>
            <a:ext cx="5904000" cy="4427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6264360" y="1258920"/>
            <a:ext cx="23050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Kdenlive - 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A - NTE</dc:creator>
  <dc:description/>
  <dc:language>en-US</dc:language>
  <cp:lastModifiedBy>MicroCarla</cp:lastModifiedBy>
  <dcterms:modified xsi:type="dcterms:W3CDTF">2009-08-12T11:56:56Z</dcterms:modified>
  <cp:revision>6</cp:revision>
  <dc:subject/>
  <dc:title>Slide 1</dc:title>
</cp:coreProperties>
</file>